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13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4.wmf" ContentType="image/x-wmf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jpeg" ContentType="image/jpeg"/>
  <Override PartName="/ppt/media/image24.png" ContentType="image/png"/>
  <Override PartName="/ppt/media/image25.jpeg" ContentType="image/jpe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291-DB5A-4A7D-80A6-0FF348D7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47F2-CCAE-4A79-B798-EF5728E7D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5E6F-0444-4E52-8974-C3FA2DDBE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9EF0-4F95-4B5D-9122-8FD3E3CBB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8736-1509-4B80-92C4-C82D7C758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17DB-E98F-4EE7-B369-00092C133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5C02-05EA-4F2A-B014-1154F8ABB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13E8-69FD-4774-9C4F-4D0136040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5868-2815-4AC7-B6E8-694810445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E33F-EDDD-4FC3-BDAE-B6BDC5CB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8B0F-AED1-4F7E-BE78-6DAEDBB19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A457-9766-4C32-9A2E-D98DB6058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5A8A-F49F-4C38-A4B8-E133DC58F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43CE-469B-4FA8-95DD-0F75B11B06B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169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39612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al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39720" y="5261040"/>
            <a:ext cx="3127680" cy="124164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with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is complex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 flipH="1">
            <a:off x="221760" y="5570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536400" y="3886200"/>
            <a:ext cx="2286000" cy="1239840"/>
          </a:xfrm>
          <a:prstGeom prst="wedgeEllipseCallout">
            <a:avLst>
              <a:gd name="adj1" fmla="val 16180"/>
              <a:gd name="adj2" fmla="val 104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It likes wat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lso pushes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it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5043600"/>
            <a:ext cx="3924360" cy="163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154480" y="4477320"/>
            <a:ext cx="341964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040" y="3327480"/>
            <a:ext cx="290340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73600" y="288936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functional group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3400" y="3089160"/>
            <a:ext cx="2616480" cy="13780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1384200"/>
            <a:ext cx="8008920" cy="50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0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4290840"/>
            <a:ext cx="3962520" cy="24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476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4600" y="3427920"/>
            <a:ext cx="326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13440" y="2911320"/>
            <a:ext cx="3951360" cy="210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6342120" y="243288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a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 subuni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3C alcohol)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438280"/>
            <a:ext cx="7772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0800" y="3343320"/>
            <a:ext cx="2165400" cy="1650960"/>
            <a:chOff x="1720800" y="3343320"/>
            <a:chExt cx="2165400" cy="1650960"/>
          </a:xfrm>
        </p:grpSpPr>
        <p:sp>
          <p:nvSpPr>
            <p:cNvPr id="122" name=""/>
            <p:cNvSpPr/>
            <p:nvPr/>
          </p:nvSpPr>
          <p:spPr>
            <a:xfrm>
              <a:off x="1720800" y="334332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8760" y="429336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131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135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138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700440" y="2718360"/>
            <a:ext cx="3419640" cy="4597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7947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1-13T04:33:52Z</cp:lastPrinted>
  <dcterms:modified xsi:type="dcterms:W3CDTF">2008-09-10T17:09:55Z</dcterms:modified>
  <cp:revision>41</cp:revision>
  <dc:subject/>
  <dc:title>PowerPoint Presentation</dc:title>
</cp:coreProperties>
</file>